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3FE-D5D2-4C09-949A-3D4D3C82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FC4-DF47-4D93-AB57-FDF8F43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B67-60FC-4DF3-B1A3-B2BECA06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09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37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1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709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3937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E23-5EF1-4A54-BE53-03613C60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CAA-DAA8-4F83-9A5E-AC138A8A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6B1-8FB8-4D7D-8878-B01F5488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BFC-2966-48A3-8351-E52F33B8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809-67FA-41A9-BF66-2871F2E3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1040" y="933480"/>
            <a:ext cx="1841976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1BF-BB35-4C7B-AFA7-0F2CD7A0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2BC-CE38-454B-BD80-81D4DBF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581-A235-4607-B1AB-BF6AE71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4BC-0E39-4875-9CF0-03ECD4A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0680" y="13477680"/>
            <a:ext cx="4767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58120" y="13477680"/>
            <a:ext cx="6486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33680" y="13477680"/>
            <a:ext cx="47671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7D814-0082-4D88-8670-B80D0B8B87E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1040" y="933480"/>
            <a:ext cx="3333960" cy="111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10200" y="1398600"/>
            <a:ext cx="9425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1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alisierung eines Zustandsreglers mit Beob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0200" y="8820000"/>
            <a:ext cx="56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89640" y="1514520"/>
            <a:ext cx="315720" cy="284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941680" y="900360"/>
            <a:ext cx="641160" cy="639720"/>
            <a:chOff x="17941680" y="900360"/>
            <a:chExt cx="641160" cy="639720"/>
          </a:xfrm>
        </p:grpSpPr>
        <p:sp>
          <p:nvSpPr>
            <p:cNvPr id="46" name=""/>
            <p:cNvSpPr/>
            <p:nvPr/>
          </p:nvSpPr>
          <p:spPr>
            <a:xfrm rot="16860000">
              <a:off x="18439920" y="992520"/>
              <a:ext cx="42120" cy="5112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6000000">
              <a:off x="18262080" y="971640"/>
              <a:ext cx="43920" cy="4968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720000">
              <a:off x="18286200" y="915840"/>
              <a:ext cx="169560" cy="178200"/>
            </a:xfrm>
            <a:prstGeom prst="pentagon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720000">
              <a:off x="18222120" y="1133280"/>
              <a:ext cx="209520" cy="2462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0000">
              <a:off x="18313200" y="974520"/>
              <a:ext cx="120240" cy="40680"/>
            </a:xfrm>
            <a:prstGeom prst="ellipse">
              <a:avLst/>
            </a:prstGeom>
            <a:solidFill>
              <a:srgbClr val="e6e6ff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20000">
              <a:off x="18377280" y="989280"/>
              <a:ext cx="20880" cy="2232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20000">
              <a:off x="18348480" y="982800"/>
              <a:ext cx="20520" cy="2268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20000">
              <a:off x="18326520" y="1094040"/>
              <a:ext cx="60840" cy="1764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20000">
              <a:off x="18321480" y="1114920"/>
              <a:ext cx="60840" cy="180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4440000">
              <a:off x="18149040" y="1109160"/>
              <a:ext cx="22680" cy="1454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20000">
              <a:off x="18449640" y="1179720"/>
              <a:ext cx="22320" cy="1501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720000">
              <a:off x="18446760" y="1178280"/>
              <a:ext cx="11160" cy="4716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20000">
              <a:off x="18223920" y="1142640"/>
              <a:ext cx="9360" cy="4716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020000">
              <a:off x="18026280" y="1125360"/>
              <a:ext cx="22680" cy="10260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840000">
              <a:off x="18483120" y="1306440"/>
              <a:ext cx="22680" cy="1022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20000">
              <a:off x="18071280" y="1178640"/>
              <a:ext cx="36720" cy="42480"/>
            </a:xfrm>
            <a:prstGeom prst="ellipse">
              <a:avLst/>
            </a:prstGeom>
            <a:solidFill>
              <a:srgbClr val="5c852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720000">
              <a:off x="18438480" y="1296360"/>
              <a:ext cx="36360" cy="42120"/>
            </a:xfrm>
            <a:prstGeom prst="ellipse">
              <a:avLst/>
            </a:prstGeom>
            <a:solidFill>
              <a:srgbClr val="7da647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60000">
              <a:off x="17944920" y="1129680"/>
              <a:ext cx="57240" cy="2916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">
              <a:off x="18520200" y="1384200"/>
              <a:ext cx="59040" cy="2916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720000">
              <a:off x="18257400" y="1378080"/>
              <a:ext cx="59040" cy="12240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20000">
              <a:off x="18218880" y="1459800"/>
              <a:ext cx="28440" cy="6012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20000">
              <a:off x="18306720" y="1477440"/>
              <a:ext cx="28800" cy="6012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00">
              <a:off x="18276480" y="1188720"/>
              <a:ext cx="28440" cy="29160"/>
            </a:xfrm>
            <a:prstGeom prst="rect">
              <a:avLst/>
            </a:prstGeom>
            <a:solidFill>
              <a:srgbClr val="dc23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8318240" y="1044720"/>
              <a:ext cx="87840" cy="33840"/>
              <a:chOff x="18318240" y="1044720"/>
              <a:chExt cx="87840" cy="33840"/>
            </a:xfrm>
          </p:grpSpPr>
          <p:sp>
            <p:nvSpPr>
              <p:cNvPr id="70" name=""/>
              <p:cNvSpPr/>
              <p:nvPr/>
            </p:nvSpPr>
            <p:spPr>
              <a:xfrm flipH="1" flipV="1">
                <a:off x="18333720" y="1068480"/>
                <a:ext cx="45360" cy="1008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720000">
                <a:off x="18338400" y="1050480"/>
                <a:ext cx="20160" cy="1908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8344520" y="1050480"/>
                <a:ext cx="6120" cy="1908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20000">
                <a:off x="18360360" y="1054800"/>
                <a:ext cx="20520" cy="1944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8366480" y="1054800"/>
                <a:ext cx="6120" cy="194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8378000" y="1060920"/>
                <a:ext cx="28080" cy="14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318240" y="1044720"/>
                <a:ext cx="15480" cy="23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318240" y="1044720"/>
                <a:ext cx="84960" cy="14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 flipV="1">
            <a:off x="17975160" y="788760"/>
            <a:ext cx="125640" cy="393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780400" y="664200"/>
            <a:ext cx="543240" cy="444600"/>
            <a:chOff x="17780400" y="664200"/>
            <a:chExt cx="543240" cy="444600"/>
          </a:xfrm>
        </p:grpSpPr>
        <p:sp>
          <p:nvSpPr>
            <p:cNvPr id="80" name=""/>
            <p:cNvSpPr/>
            <p:nvPr/>
          </p:nvSpPr>
          <p:spPr>
            <a:xfrm rot="1140000">
              <a:off x="17817840" y="731880"/>
              <a:ext cx="468000" cy="309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140000">
              <a:off x="17920800" y="803880"/>
              <a:ext cx="300240" cy="9144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6320960" y="1363680"/>
            <a:ext cx="3743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T E A M         R O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18440" y="2749680"/>
            <a:ext cx="40035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13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rläuteru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7:58:38Z</dcterms:created>
  <dc:creator/>
  <dc:description/>
  <dc:language>en-US</dc:language>
  <cp:lastModifiedBy/>
  <dcterms:modified xsi:type="dcterms:W3CDTF">2015-05-26T09:55:12Z</dcterms:modified>
  <cp:revision>6</cp:revision>
  <dc:subject/>
  <dc:title/>
</cp:coreProperties>
</file>