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131-A248-4D7E-A964-E92A8D98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144-4A7A-464D-8501-27CBBDD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D94-4F10-4D3A-B6D4-4F562A35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D9F-EC82-49AF-9D66-B6BA227F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23A-20BD-4A05-821C-71B63469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131-B2A8-4339-B619-EB0989A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E1A-F6EB-44C8-8903-60BD871D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868-919E-4CA9-B891-3DC7E014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E93-124F-4137-B293-5766BCF0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E5D-FEF0-4B1D-9BC4-59E3509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EC8-5936-44A4-84BC-04E3CF1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75B-A37F-4E59-9641-2996790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F8C9D-15B3-45EF-B58B-52C2A78F0929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3333960" cy="111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10200" y="1398600"/>
            <a:ext cx="9425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1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89640" y="1514520"/>
            <a:ext cx="315720" cy="2840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941680" y="900360"/>
            <a:ext cx="641160" cy="639720"/>
            <a:chOff x="17941680" y="900360"/>
            <a:chExt cx="641160" cy="639720"/>
          </a:xfrm>
        </p:grpSpPr>
        <p:sp>
          <p:nvSpPr>
            <p:cNvPr id="46" name=""/>
            <p:cNvSpPr/>
            <p:nvPr/>
          </p:nvSpPr>
          <p:spPr>
            <a:xfrm rot="16860000">
              <a:off x="18439920" y="992520"/>
              <a:ext cx="42120" cy="5112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6000000">
              <a:off x="18262080" y="971640"/>
              <a:ext cx="43920" cy="4968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720000">
              <a:off x="18286200" y="915840"/>
              <a:ext cx="169560" cy="17820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720000">
              <a:off x="18222120" y="1133280"/>
              <a:ext cx="209520" cy="246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8313200" y="974520"/>
              <a:ext cx="120240" cy="4068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8377280" y="989280"/>
              <a:ext cx="20880" cy="2232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8348480" y="982800"/>
              <a:ext cx="20520" cy="2268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8326520" y="1094040"/>
              <a:ext cx="60840" cy="1764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8321480" y="1114920"/>
              <a:ext cx="60840" cy="180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4440000">
              <a:off x="18149040" y="1109160"/>
              <a:ext cx="22680" cy="1454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8449640" y="1179720"/>
              <a:ext cx="22320" cy="1501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720000">
              <a:off x="18446760" y="1178280"/>
              <a:ext cx="111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8223920" y="1142640"/>
              <a:ext cx="93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020000">
              <a:off x="18026280" y="1125360"/>
              <a:ext cx="22680" cy="1026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840000">
              <a:off x="18483120" y="1306440"/>
              <a:ext cx="22680" cy="102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20000">
              <a:off x="18071280" y="1178640"/>
              <a:ext cx="36720" cy="424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720000">
              <a:off x="18438480" y="1296360"/>
              <a:ext cx="36360" cy="4212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60000">
              <a:off x="17944920" y="1129680"/>
              <a:ext cx="572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">
              <a:off x="18520200" y="1384200"/>
              <a:ext cx="590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720000">
              <a:off x="18257400" y="1378080"/>
              <a:ext cx="59040" cy="1224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20000">
              <a:off x="18218880" y="1459800"/>
              <a:ext cx="2844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8306720" y="1477440"/>
              <a:ext cx="2880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8276480" y="1188720"/>
              <a:ext cx="28440" cy="2916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8318240" y="1044720"/>
              <a:ext cx="87840" cy="33840"/>
              <a:chOff x="18318240" y="1044720"/>
              <a:chExt cx="87840" cy="3384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18333720" y="1068480"/>
                <a:ext cx="45360" cy="10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720000">
                <a:off x="18338400" y="1050480"/>
                <a:ext cx="20160" cy="1908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8344520" y="1050480"/>
                <a:ext cx="6120" cy="19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8360360" y="1054800"/>
                <a:ext cx="20520" cy="1944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8366480" y="1054800"/>
                <a:ext cx="6120" cy="194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8378000" y="1060920"/>
                <a:ext cx="2808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318240" y="1044720"/>
                <a:ext cx="15480" cy="23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318240" y="1044720"/>
                <a:ext cx="8496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 flipV="1">
            <a:off x="17975160" y="788760"/>
            <a:ext cx="125640" cy="39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780400" y="664200"/>
            <a:ext cx="543240" cy="444600"/>
            <a:chOff x="17780400" y="664200"/>
            <a:chExt cx="543240" cy="444600"/>
          </a:xfrm>
        </p:grpSpPr>
        <p:sp>
          <p:nvSpPr>
            <p:cNvPr id="80" name=""/>
            <p:cNvSpPr/>
            <p:nvPr/>
          </p:nvSpPr>
          <p:spPr>
            <a:xfrm rot="1140000">
              <a:off x="17817840" y="731880"/>
              <a:ext cx="468000" cy="309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140000">
              <a:off x="17920800" y="803880"/>
              <a:ext cx="300240" cy="914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6387920" y="1382760"/>
            <a:ext cx="3743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cc00"/>
                </a:solidFill>
                <a:latin typeface="Arial"/>
              </a:rPr>
              <a:t>T E A M         G R Ü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18440" y="2749680"/>
            <a:ext cx="40035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1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rläuteru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6T09:54:47Z</dcterms:modified>
  <cp:revision>9</cp:revision>
  <dc:subject/>
  <dc:title/>
</cp:coreProperties>
</file>