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1383625" cy="151193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4A71-453C-4C80-944C-E94B0B42F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81040" y="933480"/>
            <a:ext cx="1841976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81040" y="3728520"/>
            <a:ext cx="1841976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81040" y="8089560"/>
            <a:ext cx="1841976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DC01-0FA2-42C2-981B-4135FFD94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81040" y="933480"/>
            <a:ext cx="1841976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81040" y="3728520"/>
            <a:ext cx="898848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919160" y="3728520"/>
            <a:ext cx="898848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81040" y="8089560"/>
            <a:ext cx="898848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0919160" y="8089560"/>
            <a:ext cx="898848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E626-24D3-430C-9B80-7DB97DE4C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81040" y="933480"/>
            <a:ext cx="1841976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81040" y="3728520"/>
            <a:ext cx="593100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7709040" y="3728520"/>
            <a:ext cx="593100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937040" y="3728520"/>
            <a:ext cx="593100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81040" y="8089560"/>
            <a:ext cx="593100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7709040" y="8089560"/>
            <a:ext cx="593100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13937040" y="8089560"/>
            <a:ext cx="593100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1E6C-FC71-4179-A8ED-864CB7149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81040" y="933480"/>
            <a:ext cx="1841976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81040" y="3728520"/>
            <a:ext cx="18419760" cy="834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151B-C52B-45A9-938A-8E5BD0253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81040" y="933480"/>
            <a:ext cx="1841976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81040" y="3728520"/>
            <a:ext cx="18419760" cy="83487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553A-7B47-4D92-9265-A57ADDF29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81040" y="933480"/>
            <a:ext cx="1841976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81040" y="3728520"/>
            <a:ext cx="8988480" cy="83487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10919160" y="3728520"/>
            <a:ext cx="8988480" cy="83487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E197-A7FD-4CFC-B2C4-0C44D7C3D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81040" y="933480"/>
            <a:ext cx="1841976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8071-3E1E-4BF1-A37C-C244D5E31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81040" y="933480"/>
            <a:ext cx="18419760" cy="11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759C-4EC6-41D7-9727-6C742F139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81040" y="933480"/>
            <a:ext cx="1841976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81040" y="3728520"/>
            <a:ext cx="898848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10919160" y="3728520"/>
            <a:ext cx="8988480" cy="83487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81040" y="8089560"/>
            <a:ext cx="898848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E1FA-A507-47BE-ABD1-81CD1B28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81040" y="933480"/>
            <a:ext cx="1841976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81040" y="3728520"/>
            <a:ext cx="8988480" cy="83487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10919160" y="3728520"/>
            <a:ext cx="898848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919160" y="8089560"/>
            <a:ext cx="898848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E37D-17F0-4FB6-8E7B-B6305FF1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81040" y="933480"/>
            <a:ext cx="1841976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81040" y="3728520"/>
            <a:ext cx="898848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919160" y="3728520"/>
            <a:ext cx="898848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81040" y="8089560"/>
            <a:ext cx="1841976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1EDD-95AA-4A69-81CE-14DAFFF5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81040" y="933480"/>
            <a:ext cx="1841976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81040" y="3728520"/>
            <a:ext cx="18419760" cy="83487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27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27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27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27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27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27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80680" y="13477680"/>
            <a:ext cx="476748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458120" y="13477680"/>
            <a:ext cx="648648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133680" y="13477680"/>
            <a:ext cx="47671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901248-BDB8-4CFF-975B-89B8DD9C6920}" type="slidenum">
              <a: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481040" y="933480"/>
            <a:ext cx="3333960" cy="1112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10200" y="1398600"/>
            <a:ext cx="94251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12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ealisierung eines Zustandsreglers mit Beobach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210200" y="8820000"/>
            <a:ext cx="5688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868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089640" y="1514520"/>
            <a:ext cx="315720" cy="284040"/>
          </a:xfrm>
          <a:prstGeom prst="ellipse">
            <a:avLst/>
          </a:prstGeom>
          <a:solidFill>
            <a:srgbClr val="ffd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7941680" y="900360"/>
            <a:ext cx="641160" cy="639720"/>
            <a:chOff x="17941680" y="900360"/>
            <a:chExt cx="641160" cy="639720"/>
          </a:xfrm>
        </p:grpSpPr>
        <p:sp>
          <p:nvSpPr>
            <p:cNvPr id="46" name=""/>
            <p:cNvSpPr/>
            <p:nvPr/>
          </p:nvSpPr>
          <p:spPr>
            <a:xfrm rot="16860000">
              <a:off x="18439920" y="992520"/>
              <a:ext cx="42120" cy="51120"/>
            </a:xfrm>
            <a:prstGeom prst="triangle">
              <a:avLst>
                <a:gd name="adj" fmla="val 50000"/>
              </a:avLst>
            </a:prstGeom>
            <a:solidFill>
              <a:srgbClr val="94bd5e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rot="6000000">
              <a:off x="18262080" y="971640"/>
              <a:ext cx="43920" cy="49680"/>
            </a:xfrm>
            <a:prstGeom prst="triangle">
              <a:avLst>
                <a:gd name="adj" fmla="val 50000"/>
              </a:avLst>
            </a:prstGeom>
            <a:solidFill>
              <a:srgbClr val="94bd5e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rot="720000">
              <a:off x="18286200" y="915840"/>
              <a:ext cx="169560" cy="178200"/>
            </a:xfrm>
            <a:prstGeom prst="pentagon">
              <a:avLst/>
            </a:prstGeom>
            <a:solidFill>
              <a:srgbClr val="94bd5e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rot="720000">
              <a:off x="18222120" y="1133280"/>
              <a:ext cx="209520" cy="246240"/>
            </a:xfrm>
            <a:prstGeom prst="rect">
              <a:avLst/>
            </a:prstGeom>
            <a:solidFill>
              <a:srgbClr val="94bd5e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720000">
              <a:off x="18313200" y="974520"/>
              <a:ext cx="120240" cy="40680"/>
            </a:xfrm>
            <a:prstGeom prst="ellipse">
              <a:avLst/>
            </a:prstGeom>
            <a:solidFill>
              <a:srgbClr val="e6e6ff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rot="720000">
              <a:off x="18377280" y="989280"/>
              <a:ext cx="20880" cy="22320"/>
            </a:xfrm>
            <a:prstGeom prst="ellipse">
              <a:avLst/>
            </a:prstGeom>
            <a:solidFill>
              <a:srgbClr val="00ae00"/>
            </a:solidFill>
            <a:ln w="108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rot="720000">
              <a:off x="18348480" y="982800"/>
              <a:ext cx="20520" cy="22680"/>
            </a:xfrm>
            <a:prstGeom prst="ellipse">
              <a:avLst/>
            </a:prstGeom>
            <a:solidFill>
              <a:srgbClr val="00ae00"/>
            </a:solidFill>
            <a:ln w="108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rot="720000">
              <a:off x="18326520" y="1094040"/>
              <a:ext cx="60840" cy="17640"/>
            </a:xfrm>
            <a:prstGeom prst="rect">
              <a:avLst/>
            </a:prstGeom>
            <a:solidFill>
              <a:srgbClr val="355e00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720000">
              <a:off x="18321480" y="1114920"/>
              <a:ext cx="60840" cy="18000"/>
            </a:xfrm>
            <a:prstGeom prst="rect">
              <a:avLst/>
            </a:prstGeom>
            <a:solidFill>
              <a:srgbClr val="355e00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rot="4440000">
              <a:off x="18149040" y="1109160"/>
              <a:ext cx="22680" cy="145440"/>
            </a:xfrm>
            <a:prstGeom prst="rect">
              <a:avLst/>
            </a:prstGeom>
            <a:solidFill>
              <a:srgbClr val="94bd5e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rot="720000">
              <a:off x="18449640" y="1179720"/>
              <a:ext cx="22320" cy="150120"/>
            </a:xfrm>
            <a:prstGeom prst="rect">
              <a:avLst/>
            </a:prstGeom>
            <a:solidFill>
              <a:srgbClr val="94bd5e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rot="720000">
              <a:off x="18446760" y="1178280"/>
              <a:ext cx="11160" cy="47160"/>
            </a:xfrm>
            <a:prstGeom prst="rect">
              <a:avLst/>
            </a:prstGeom>
            <a:solidFill>
              <a:srgbClr val="355e00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rot="720000">
              <a:off x="18223920" y="1142640"/>
              <a:ext cx="9360" cy="47160"/>
            </a:xfrm>
            <a:prstGeom prst="rect">
              <a:avLst/>
            </a:prstGeom>
            <a:solidFill>
              <a:srgbClr val="355e00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rot="7020000">
              <a:off x="18026280" y="1125360"/>
              <a:ext cx="22680" cy="102600"/>
            </a:xfrm>
            <a:prstGeom prst="rect">
              <a:avLst/>
            </a:prstGeom>
            <a:solidFill>
              <a:srgbClr val="94bd5e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rot="18840000">
              <a:off x="18483120" y="1306440"/>
              <a:ext cx="22680" cy="102240"/>
            </a:xfrm>
            <a:prstGeom prst="rect">
              <a:avLst/>
            </a:prstGeom>
            <a:solidFill>
              <a:srgbClr val="94bd5e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rot="720000">
              <a:off x="18071280" y="1178640"/>
              <a:ext cx="36720" cy="42480"/>
            </a:xfrm>
            <a:prstGeom prst="ellipse">
              <a:avLst/>
            </a:prstGeom>
            <a:solidFill>
              <a:srgbClr val="5c8526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rot="720000">
              <a:off x="18438480" y="1296360"/>
              <a:ext cx="36360" cy="42120"/>
            </a:xfrm>
            <a:prstGeom prst="ellipse">
              <a:avLst/>
            </a:prstGeom>
            <a:solidFill>
              <a:srgbClr val="7da647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rot="1860000">
              <a:off x="17944920" y="1129680"/>
              <a:ext cx="57240" cy="29160"/>
            </a:xfrm>
            <a:prstGeom prst="rect">
              <a:avLst/>
            </a:prstGeom>
            <a:solidFill>
              <a:srgbClr val="33cc66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rot="1620000">
              <a:off x="18520200" y="1384200"/>
              <a:ext cx="59040" cy="29160"/>
            </a:xfrm>
            <a:prstGeom prst="rect">
              <a:avLst/>
            </a:prstGeom>
            <a:solidFill>
              <a:srgbClr val="33cc66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rot="720000">
              <a:off x="18257400" y="1378080"/>
              <a:ext cx="59040" cy="122400"/>
            </a:xfrm>
            <a:prstGeom prst="rect">
              <a:avLst/>
            </a:prstGeom>
            <a:solidFill>
              <a:srgbClr val="94bd5e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720000">
              <a:off x="18218880" y="1459800"/>
              <a:ext cx="28440" cy="60120"/>
            </a:xfrm>
            <a:prstGeom prst="rect">
              <a:avLst/>
            </a:prstGeom>
            <a:solidFill>
              <a:srgbClr val="000000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rot="720000">
              <a:off x="18306720" y="1477440"/>
              <a:ext cx="28800" cy="60120"/>
            </a:xfrm>
            <a:prstGeom prst="rect">
              <a:avLst/>
            </a:prstGeom>
            <a:solidFill>
              <a:srgbClr val="000000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rot="720000">
              <a:off x="18276480" y="1188720"/>
              <a:ext cx="28440" cy="29160"/>
            </a:xfrm>
            <a:prstGeom prst="rect">
              <a:avLst/>
            </a:prstGeom>
            <a:solidFill>
              <a:srgbClr val="dc2300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18318240" y="1044720"/>
              <a:ext cx="87840" cy="33840"/>
              <a:chOff x="18318240" y="1044720"/>
              <a:chExt cx="87840" cy="33840"/>
            </a:xfrm>
          </p:grpSpPr>
          <p:sp>
            <p:nvSpPr>
              <p:cNvPr id="70" name=""/>
              <p:cNvSpPr/>
              <p:nvPr/>
            </p:nvSpPr>
            <p:spPr>
              <a:xfrm flipH="1" flipV="1">
                <a:off x="18333720" y="1068480"/>
                <a:ext cx="45360" cy="10080"/>
              </a:xfrm>
              <a:prstGeom prst="line">
                <a:avLst/>
              </a:prstGeom>
              <a:ln w="10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720000">
                <a:off x="18338400" y="1050480"/>
                <a:ext cx="20160" cy="19080"/>
              </a:xfrm>
              <a:prstGeom prst="rect">
                <a:avLst/>
              </a:prstGeom>
              <a:solidFill>
                <a:srgbClr val="94bd5e"/>
              </a:solidFill>
              <a:ln w="10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18344520" y="1050480"/>
                <a:ext cx="6120" cy="19080"/>
              </a:xfrm>
              <a:prstGeom prst="line">
                <a:avLst/>
              </a:prstGeom>
              <a:ln w="10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720000">
                <a:off x="18360360" y="1054800"/>
                <a:ext cx="20520" cy="19440"/>
              </a:xfrm>
              <a:prstGeom prst="rect">
                <a:avLst/>
              </a:prstGeom>
              <a:solidFill>
                <a:srgbClr val="94bd5e"/>
              </a:solidFill>
              <a:ln w="10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>
                <a:off x="18366480" y="1054800"/>
                <a:ext cx="6120" cy="19440"/>
              </a:xfrm>
              <a:prstGeom prst="line">
                <a:avLst/>
              </a:prstGeom>
              <a:ln w="10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>
                <a:off x="18378000" y="1060920"/>
                <a:ext cx="28080" cy="14760"/>
              </a:xfrm>
              <a:prstGeom prst="line">
                <a:avLst/>
              </a:prstGeom>
              <a:ln w="10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8318240" y="1044720"/>
                <a:ext cx="15480" cy="23760"/>
              </a:xfrm>
              <a:prstGeom prst="line">
                <a:avLst/>
              </a:prstGeom>
              <a:ln w="10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8318240" y="1044720"/>
                <a:ext cx="84960" cy="14760"/>
              </a:xfrm>
              <a:prstGeom prst="line">
                <a:avLst/>
              </a:prstGeom>
              <a:ln w="10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8" name=""/>
          <p:cNvSpPr/>
          <p:nvPr/>
        </p:nvSpPr>
        <p:spPr>
          <a:xfrm flipV="1">
            <a:off x="17975160" y="788760"/>
            <a:ext cx="125640" cy="3934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7780400" y="664200"/>
            <a:ext cx="543240" cy="444600"/>
            <a:chOff x="17780400" y="664200"/>
            <a:chExt cx="543240" cy="444600"/>
          </a:xfrm>
        </p:grpSpPr>
        <p:sp>
          <p:nvSpPr>
            <p:cNvPr id="80" name=""/>
            <p:cNvSpPr/>
            <p:nvPr/>
          </p:nvSpPr>
          <p:spPr>
            <a:xfrm rot="1140000">
              <a:off x="17817840" y="731880"/>
              <a:ext cx="468000" cy="30924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c500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140000">
              <a:off x="17920800" y="803880"/>
              <a:ext cx="300240" cy="91440"/>
            </a:xfrm>
            <a:prstGeom prst="rect">
              <a:avLst/>
            </a:prstGeom>
            <a:solidFill>
              <a:srgbClr val="c500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6492680" y="1401840"/>
            <a:ext cx="374328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ffd320"/>
                </a:solidFill>
                <a:latin typeface="Arial"/>
              </a:rPr>
              <a:t>T E A M         G E L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218440" y="2749680"/>
            <a:ext cx="400356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136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Arial"/>
              </a:rPr>
              <a:t>Erläuterung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3T17:58:38Z</dcterms:created>
  <dc:creator/>
  <dc:description/>
  <dc:language>en-US</dc:language>
  <cp:lastModifiedBy/>
  <dcterms:modified xsi:type="dcterms:W3CDTF">2015-05-26T09:54:21Z</dcterms:modified>
  <cp:revision>9</cp:revision>
  <dc:subject/>
  <dc:title/>
</cp:coreProperties>
</file>