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3625" cy="151193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883-CB6D-4EF2-9316-849644B6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1040" y="808956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567-DE27-4365-911F-0984C49B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091916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78F-F5F7-4ACE-91C1-46160C10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709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937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1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709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3937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1CA-293A-4B4A-BC39-6D760DC7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B41-3DA6-4CDA-BE7B-CEEC65F1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983-3C0B-4788-AFB0-1DE515A4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FB4-8B63-46AC-8447-8F5BF074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949-3F6B-41D8-BFF2-F5FC7D34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81040" y="933480"/>
            <a:ext cx="18419760" cy="11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40B-A24F-4929-9E05-F4D35236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34E-FF00-4BF6-990F-040BB108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91916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7C6A-03CD-4B61-A9E7-41076B30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89F-7DFF-45CF-AD78-CE2B364D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db6"/>
            </a:gs>
            <a:gs pos="100000">
              <a:srgbClr val="555753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80680" y="13477680"/>
            <a:ext cx="4767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58120" y="13477680"/>
            <a:ext cx="6486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133680" y="13477680"/>
            <a:ext cx="47671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25C8E-D644-42F2-8582-AA08A7D3F7F0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81040" y="933480"/>
            <a:ext cx="3333960" cy="111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bdb6"/>
            </a:gs>
            <a:gs pos="100000">
              <a:srgbClr val="555753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10200" y="1398600"/>
            <a:ext cx="9425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12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alisierung eines Zustandsreglers mit Beoba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0200" y="8820000"/>
            <a:ext cx="568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089640" y="1514520"/>
            <a:ext cx="315720" cy="284040"/>
          </a:xfrm>
          <a:prstGeom prst="ellipse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7941680" y="900360"/>
            <a:ext cx="641160" cy="639720"/>
            <a:chOff x="17941680" y="900360"/>
            <a:chExt cx="641160" cy="639720"/>
          </a:xfrm>
        </p:grpSpPr>
        <p:sp>
          <p:nvSpPr>
            <p:cNvPr id="46" name=""/>
            <p:cNvSpPr/>
            <p:nvPr/>
          </p:nvSpPr>
          <p:spPr>
            <a:xfrm rot="16860000">
              <a:off x="18439920" y="992520"/>
              <a:ext cx="42120" cy="51120"/>
            </a:xfrm>
            <a:prstGeom prst="triangle">
              <a:avLst>
                <a:gd name="adj" fmla="val 50000"/>
              </a:avLst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6000000">
              <a:off x="18262080" y="971640"/>
              <a:ext cx="43920" cy="49680"/>
            </a:xfrm>
            <a:prstGeom prst="triangle">
              <a:avLst>
                <a:gd name="adj" fmla="val 50000"/>
              </a:avLst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720000">
              <a:off x="18286200" y="915840"/>
              <a:ext cx="169560" cy="178200"/>
            </a:xfrm>
            <a:prstGeom prst="pentagon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720000">
              <a:off x="18222120" y="1133280"/>
              <a:ext cx="209520" cy="24624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720000">
              <a:off x="18313200" y="974520"/>
              <a:ext cx="120240" cy="40680"/>
            </a:xfrm>
            <a:prstGeom prst="ellipse">
              <a:avLst/>
            </a:prstGeom>
            <a:solidFill>
              <a:srgbClr val="e6e6ff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720000">
              <a:off x="18377280" y="989280"/>
              <a:ext cx="20880" cy="22320"/>
            </a:xfrm>
            <a:prstGeom prst="ellipse">
              <a:avLst/>
            </a:prstGeom>
            <a:solidFill>
              <a:srgbClr val="00ae00"/>
            </a:solidFill>
            <a:ln w="108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720000">
              <a:off x="18348480" y="982800"/>
              <a:ext cx="20520" cy="22680"/>
            </a:xfrm>
            <a:prstGeom prst="ellipse">
              <a:avLst/>
            </a:prstGeom>
            <a:solidFill>
              <a:srgbClr val="00ae00"/>
            </a:solidFill>
            <a:ln w="108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720000">
              <a:off x="18326520" y="1094040"/>
              <a:ext cx="60840" cy="1764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720000">
              <a:off x="18321480" y="1114920"/>
              <a:ext cx="60840" cy="1800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4440000">
              <a:off x="18149040" y="1109160"/>
              <a:ext cx="22680" cy="14544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720000">
              <a:off x="18449640" y="1179720"/>
              <a:ext cx="22320" cy="15012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720000">
              <a:off x="18446760" y="1178280"/>
              <a:ext cx="11160" cy="4716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720000">
              <a:off x="18223920" y="1142640"/>
              <a:ext cx="9360" cy="4716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7020000">
              <a:off x="18026280" y="1125360"/>
              <a:ext cx="22680" cy="10260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8840000">
              <a:off x="18483120" y="1306440"/>
              <a:ext cx="22680" cy="10224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720000">
              <a:off x="18071280" y="1178640"/>
              <a:ext cx="36720" cy="42480"/>
            </a:xfrm>
            <a:prstGeom prst="ellipse">
              <a:avLst/>
            </a:prstGeom>
            <a:solidFill>
              <a:srgbClr val="5c852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720000">
              <a:off x="18438480" y="1296360"/>
              <a:ext cx="36360" cy="42120"/>
            </a:xfrm>
            <a:prstGeom prst="ellipse">
              <a:avLst/>
            </a:prstGeom>
            <a:solidFill>
              <a:srgbClr val="7da647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860000">
              <a:off x="17944920" y="1129680"/>
              <a:ext cx="57240" cy="29160"/>
            </a:xfrm>
            <a:prstGeom prst="rect">
              <a:avLst/>
            </a:prstGeom>
            <a:solidFill>
              <a:srgbClr val="33cc6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">
              <a:off x="18520200" y="1384200"/>
              <a:ext cx="59040" cy="29160"/>
            </a:xfrm>
            <a:prstGeom prst="rect">
              <a:avLst/>
            </a:prstGeom>
            <a:solidFill>
              <a:srgbClr val="33cc6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720000">
              <a:off x="18257400" y="1378080"/>
              <a:ext cx="59040" cy="12240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720000">
              <a:off x="18218880" y="1459800"/>
              <a:ext cx="28440" cy="60120"/>
            </a:xfrm>
            <a:prstGeom prst="rect">
              <a:avLst/>
            </a:prstGeom>
            <a:solidFill>
              <a:srgbClr val="0000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20000">
              <a:off x="18306720" y="1477440"/>
              <a:ext cx="28800" cy="60120"/>
            </a:xfrm>
            <a:prstGeom prst="rect">
              <a:avLst/>
            </a:prstGeom>
            <a:solidFill>
              <a:srgbClr val="0000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720000">
              <a:off x="18276480" y="1188720"/>
              <a:ext cx="28440" cy="29160"/>
            </a:xfrm>
            <a:prstGeom prst="rect">
              <a:avLst/>
            </a:prstGeom>
            <a:solidFill>
              <a:srgbClr val="dc23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8318240" y="1044720"/>
              <a:ext cx="87840" cy="33840"/>
              <a:chOff x="18318240" y="1044720"/>
              <a:chExt cx="87840" cy="33840"/>
            </a:xfrm>
          </p:grpSpPr>
          <p:sp>
            <p:nvSpPr>
              <p:cNvPr id="70" name=""/>
              <p:cNvSpPr/>
              <p:nvPr/>
            </p:nvSpPr>
            <p:spPr>
              <a:xfrm flipH="1" flipV="1">
                <a:off x="18333720" y="1068480"/>
                <a:ext cx="45360" cy="1008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720000">
                <a:off x="18338400" y="1050480"/>
                <a:ext cx="20160" cy="19080"/>
              </a:xfrm>
              <a:prstGeom prst="rect">
                <a:avLst/>
              </a:prstGeom>
              <a:solidFill>
                <a:srgbClr val="94bd5e"/>
              </a:solidFill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18344520" y="1050480"/>
                <a:ext cx="6120" cy="1908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720000">
                <a:off x="18360360" y="1054800"/>
                <a:ext cx="20520" cy="19440"/>
              </a:xfrm>
              <a:prstGeom prst="rect">
                <a:avLst/>
              </a:prstGeom>
              <a:solidFill>
                <a:srgbClr val="94bd5e"/>
              </a:solidFill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8366480" y="1054800"/>
                <a:ext cx="6120" cy="1944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18378000" y="1060920"/>
                <a:ext cx="28080" cy="147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8318240" y="1044720"/>
                <a:ext cx="15480" cy="237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318240" y="1044720"/>
                <a:ext cx="84960" cy="147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 flipV="1">
            <a:off x="17975160" y="788760"/>
            <a:ext cx="125640" cy="393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780400" y="664200"/>
            <a:ext cx="543240" cy="444600"/>
            <a:chOff x="17780400" y="664200"/>
            <a:chExt cx="543240" cy="444600"/>
          </a:xfrm>
        </p:grpSpPr>
        <p:sp>
          <p:nvSpPr>
            <p:cNvPr id="80" name=""/>
            <p:cNvSpPr/>
            <p:nvPr/>
          </p:nvSpPr>
          <p:spPr>
            <a:xfrm rot="1140000">
              <a:off x="17817840" y="731880"/>
              <a:ext cx="468000" cy="309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c5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140000">
              <a:off x="17920800" y="803880"/>
              <a:ext cx="300240" cy="91440"/>
            </a:xfrm>
            <a:prstGeom prst="rect">
              <a:avLst/>
            </a:prstGeom>
            <a:solidFill>
              <a:srgbClr val="c5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6320960" y="1363680"/>
            <a:ext cx="3743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66ff"/>
                </a:solidFill>
                <a:latin typeface="Arial"/>
              </a:rPr>
              <a:t>T E A M         R O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18440" y="2749680"/>
            <a:ext cx="400356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13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Erläuterun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17:58:38Z</dcterms:created>
  <dc:creator/>
  <dc:description/>
  <dc:language>en-US</dc:language>
  <cp:lastModifiedBy/>
  <dcterms:modified xsi:type="dcterms:W3CDTF">2015-05-25T18:17:32Z</dcterms:modified>
  <cp:revision>6</cp:revision>
  <dc:subject/>
  <dc:title/>
</cp:coreProperties>
</file>