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3625" cy="151193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EE0-D968-41B5-88C0-601C4301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1040" y="808956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945-BC0F-415B-946A-064CFE2A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091916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0B7-8744-41C7-876F-2DF2B3D5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709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937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1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709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3937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FF48-1B4E-4131-B805-72F23774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FC2-DCA7-4ADD-9BC9-7F7DB280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1F2-6139-4C29-9745-11E23653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2CF-4759-4CF8-9383-AA7E982E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ADD-666D-46AE-AD90-5E7ABC5E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81040" y="933480"/>
            <a:ext cx="18419760" cy="11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210-AB44-4185-97D3-61F453FE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EE2-668C-4CE3-B2CE-00208B6B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91916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897-9BC8-4840-89DC-344BC868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7A8-6BC3-47F6-93A5-CD5422ED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80680" y="13477680"/>
            <a:ext cx="4767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58120" y="13477680"/>
            <a:ext cx="6486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133680" y="13477680"/>
            <a:ext cx="47671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BA9FD-29AC-42F2-9A49-4B18EFBA0880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81040" y="933480"/>
            <a:ext cx="5133960" cy="17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84440" y="3333600"/>
            <a:ext cx="170751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5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Arial"/>
              </a:rPr>
              <a:t>Thema 3: 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Realisierung eines Zustandsreglers mit Beobach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12920" y="13584240"/>
            <a:ext cx="4024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eammitglieder aus dem 6. Semester: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eammitglieder aus dem 4. Semes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0200" y="8820000"/>
            <a:ext cx="568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906600" y="13733640"/>
            <a:ext cx="34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ag der Offenen Tür 29.05.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244480" y="2013120"/>
            <a:ext cx="528840" cy="474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3997520" y="986400"/>
            <a:ext cx="1074600" cy="1071360"/>
            <a:chOff x="13997520" y="986400"/>
            <a:chExt cx="1074600" cy="1071360"/>
          </a:xfrm>
        </p:grpSpPr>
        <p:sp>
          <p:nvSpPr>
            <p:cNvPr id="48" name=""/>
            <p:cNvSpPr/>
            <p:nvPr/>
          </p:nvSpPr>
          <p:spPr>
            <a:xfrm rot="16860000">
              <a:off x="14829480" y="1136160"/>
              <a:ext cx="73440" cy="86400"/>
            </a:xfrm>
            <a:prstGeom prst="triangle">
              <a:avLst>
                <a:gd name="adj" fmla="val 50000"/>
              </a:avLst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6000000">
              <a:off x="14536080" y="1104480"/>
              <a:ext cx="73440" cy="84600"/>
            </a:xfrm>
            <a:prstGeom prst="triangle">
              <a:avLst>
                <a:gd name="adj" fmla="val 50000"/>
              </a:avLst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720000">
              <a:off x="14576040" y="1012680"/>
              <a:ext cx="285480" cy="298440"/>
            </a:xfrm>
            <a:prstGeom prst="pentagon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720000">
              <a:off x="14466240" y="1374840"/>
              <a:ext cx="352800" cy="41436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720000">
              <a:off x="14622480" y="1109880"/>
              <a:ext cx="200520" cy="68400"/>
            </a:xfrm>
            <a:prstGeom prst="ellipse">
              <a:avLst/>
            </a:prstGeom>
            <a:solidFill>
              <a:srgbClr val="e6e6ff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720000">
              <a:off x="14727960" y="1131120"/>
              <a:ext cx="35280" cy="39240"/>
            </a:xfrm>
            <a:prstGeom prst="ellipse">
              <a:avLst/>
            </a:prstGeom>
            <a:solidFill>
              <a:srgbClr val="00ae00"/>
            </a:solidFill>
            <a:ln w="108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720000">
              <a:off x="14678280" y="1121400"/>
              <a:ext cx="35280" cy="39240"/>
            </a:xfrm>
            <a:prstGeom prst="ellipse">
              <a:avLst/>
            </a:prstGeom>
            <a:solidFill>
              <a:srgbClr val="00ae00"/>
            </a:solidFill>
            <a:ln w="108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720000">
              <a:off x="14641560" y="1310760"/>
              <a:ext cx="102600" cy="3240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720000">
              <a:off x="14635080" y="1344960"/>
              <a:ext cx="102600" cy="3240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4440000">
              <a:off x="14346720" y="1334880"/>
              <a:ext cx="39240" cy="24552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720000">
              <a:off x="14850360" y="1454760"/>
              <a:ext cx="38520" cy="25128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720000">
              <a:off x="14842440" y="1449360"/>
              <a:ext cx="17640" cy="7992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720000">
              <a:off x="14471640" y="1388880"/>
              <a:ext cx="17640" cy="7992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7020000">
              <a:off x="14136480" y="1361880"/>
              <a:ext cx="39240" cy="17172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8840000">
              <a:off x="14908320" y="1664280"/>
              <a:ext cx="39240" cy="17172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720000">
              <a:off x="14214960" y="1451160"/>
              <a:ext cx="62280" cy="73080"/>
            </a:xfrm>
            <a:prstGeom prst="ellipse">
              <a:avLst/>
            </a:prstGeom>
            <a:solidFill>
              <a:srgbClr val="5c852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720000">
              <a:off x="14827680" y="1645560"/>
              <a:ext cx="62280" cy="73080"/>
            </a:xfrm>
            <a:prstGeom prst="ellipse">
              <a:avLst/>
            </a:prstGeom>
            <a:solidFill>
              <a:srgbClr val="7da647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860000">
              <a:off x="14003280" y="1368000"/>
              <a:ext cx="99000" cy="50400"/>
            </a:xfrm>
            <a:prstGeom prst="rect">
              <a:avLst/>
            </a:prstGeom>
            <a:solidFill>
              <a:srgbClr val="33cc6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">
              <a:off x="14967360" y="1794600"/>
              <a:ext cx="99000" cy="48600"/>
            </a:xfrm>
            <a:prstGeom prst="rect">
              <a:avLst/>
            </a:prstGeom>
            <a:solidFill>
              <a:srgbClr val="33cc6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20000">
              <a:off x="14529240" y="1782720"/>
              <a:ext cx="99360" cy="20376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720000">
              <a:off x="14460480" y="1921680"/>
              <a:ext cx="49320" cy="100800"/>
            </a:xfrm>
            <a:prstGeom prst="rect">
              <a:avLst/>
            </a:prstGeom>
            <a:solidFill>
              <a:srgbClr val="0000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720000">
              <a:off x="14609880" y="1953000"/>
              <a:ext cx="49320" cy="100800"/>
            </a:xfrm>
            <a:prstGeom prst="rect">
              <a:avLst/>
            </a:prstGeom>
            <a:solidFill>
              <a:srgbClr val="0000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720000">
              <a:off x="14556240" y="1467360"/>
              <a:ext cx="49680" cy="50400"/>
            </a:xfrm>
            <a:prstGeom prst="rect">
              <a:avLst/>
            </a:prstGeom>
            <a:solidFill>
              <a:srgbClr val="dc23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4630400" y="1227960"/>
              <a:ext cx="147240" cy="57960"/>
              <a:chOff x="14630400" y="1227960"/>
              <a:chExt cx="147240" cy="57960"/>
            </a:xfrm>
          </p:grpSpPr>
          <p:sp>
            <p:nvSpPr>
              <p:cNvPr id="72" name=""/>
              <p:cNvSpPr/>
              <p:nvPr/>
            </p:nvSpPr>
            <p:spPr>
              <a:xfrm flipH="1" flipV="1">
                <a:off x="14658840" y="1269360"/>
                <a:ext cx="75600" cy="165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720000">
                <a:off x="14663520" y="1238760"/>
                <a:ext cx="36360" cy="34920"/>
              </a:xfrm>
              <a:prstGeom prst="rect">
                <a:avLst/>
              </a:prstGeom>
              <a:solidFill>
                <a:srgbClr val="94bd5e"/>
              </a:solidFill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4674680" y="1238760"/>
                <a:ext cx="9720" cy="3384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720000">
                <a:off x="14700240" y="1246320"/>
                <a:ext cx="36360" cy="34920"/>
              </a:xfrm>
              <a:prstGeom prst="rect">
                <a:avLst/>
              </a:prstGeom>
              <a:solidFill>
                <a:srgbClr val="94bd5e"/>
              </a:solidFill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4713200" y="1246320"/>
                <a:ext cx="9720" cy="3384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14730840" y="1256760"/>
                <a:ext cx="46440" cy="2592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630400" y="1227960"/>
                <a:ext cx="27000" cy="4140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630400" y="1227960"/>
                <a:ext cx="147240" cy="273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 flipV="1">
            <a:off x="14052600" y="803160"/>
            <a:ext cx="209520" cy="655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3727520" y="591480"/>
            <a:ext cx="910080" cy="745920"/>
            <a:chOff x="13727520" y="591480"/>
            <a:chExt cx="910080" cy="745920"/>
          </a:xfrm>
        </p:grpSpPr>
        <p:sp>
          <p:nvSpPr>
            <p:cNvPr id="82" name=""/>
            <p:cNvSpPr/>
            <p:nvPr/>
          </p:nvSpPr>
          <p:spPr>
            <a:xfrm rot="1140000">
              <a:off x="13790520" y="704880"/>
              <a:ext cx="784080" cy="5187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c5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140000">
              <a:off x="13959720" y="821520"/>
              <a:ext cx="503640" cy="156240"/>
            </a:xfrm>
            <a:prstGeom prst="rect">
              <a:avLst/>
            </a:prstGeom>
            <a:solidFill>
              <a:srgbClr val="c5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1287080" y="1760400"/>
            <a:ext cx="626256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5400" spc="-1" strike="noStrike">
                <a:solidFill>
                  <a:srgbClr val="ff0000"/>
                </a:solidFill>
                <a:latin typeface="Arial"/>
              </a:rPr>
              <a:t>T E A M         R O 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8320" y="4735440"/>
            <a:ext cx="33991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3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Übersic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17:58:38Z</dcterms:created>
  <dc:creator/>
  <dc:description/>
  <dc:language>en-US</dc:language>
  <cp:lastModifiedBy/>
  <dcterms:modified xsi:type="dcterms:W3CDTF">2015-05-26T09:53:55Z</dcterms:modified>
  <cp:revision>6</cp:revision>
  <dc:subject/>
  <dc:title/>
</cp:coreProperties>
</file>