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3625" cy="151193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DDE-D5BE-42F1-A207-12C2159D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2CA-DB24-4851-B190-D8F39EE1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D82-4DE7-4A40-9919-DD8717D4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09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937040" y="372852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1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709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3937040" y="8089560"/>
            <a:ext cx="593100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DB4-7A13-4362-97F3-0D2BE072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712-2211-496B-A456-F49B56A6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B28-F7E2-439B-9BFC-AD227689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587-254F-4C0E-8AFE-E5BF3AEC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36F-9B1B-4C4C-837E-8393DD1E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81040" y="933480"/>
            <a:ext cx="18419760" cy="11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BD7-8E9C-4EE3-91D6-701D5F5D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2FB-7C3C-4119-B262-7BF0455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919160" y="808956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DF7-BB3B-4216-BE6D-2C217CCE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104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919160" y="3728520"/>
            <a:ext cx="898848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1040" y="8089560"/>
            <a:ext cx="18419760" cy="39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49C-CD59-401D-949E-F762FEA5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81040" y="933480"/>
            <a:ext cx="184197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1040" y="3728520"/>
            <a:ext cx="18419760" cy="834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2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27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0680" y="13477680"/>
            <a:ext cx="4767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58120" y="13477680"/>
            <a:ext cx="64864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133680" y="13477680"/>
            <a:ext cx="47671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03A20-0252-4ACF-8459-5F55715F168B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81040" y="933480"/>
            <a:ext cx="5133960" cy="17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84440" y="3333600"/>
            <a:ext cx="170751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5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Thema 3: 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Realisierung eines Zustandsreglers mit Beobach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2920" y="13584240"/>
            <a:ext cx="4024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eammitglieder aus dem 6. Semester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eammitglieder aus dem 4. Semes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0200" y="8820000"/>
            <a:ext cx="56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906600" y="13733640"/>
            <a:ext cx="34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ag der Offenen Tür 29.05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44480" y="2013120"/>
            <a:ext cx="528840" cy="4744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3997520" y="986400"/>
            <a:ext cx="1074600" cy="1071360"/>
            <a:chOff x="13997520" y="986400"/>
            <a:chExt cx="1074600" cy="1071360"/>
          </a:xfrm>
        </p:grpSpPr>
        <p:sp>
          <p:nvSpPr>
            <p:cNvPr id="48" name=""/>
            <p:cNvSpPr/>
            <p:nvPr/>
          </p:nvSpPr>
          <p:spPr>
            <a:xfrm rot="16860000">
              <a:off x="14829480" y="1136160"/>
              <a:ext cx="73440" cy="8640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6000000">
              <a:off x="14536080" y="1104480"/>
              <a:ext cx="73440" cy="84600"/>
            </a:xfrm>
            <a:prstGeom prst="triangle">
              <a:avLst>
                <a:gd name="adj" fmla="val 50000"/>
              </a:avLst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720000">
              <a:off x="14576040" y="1012680"/>
              <a:ext cx="285480" cy="298440"/>
            </a:xfrm>
            <a:prstGeom prst="pentagon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720000">
              <a:off x="14466240" y="1374840"/>
              <a:ext cx="352800" cy="41436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720000">
              <a:off x="14622480" y="1109880"/>
              <a:ext cx="200520" cy="68400"/>
            </a:xfrm>
            <a:prstGeom prst="ellipse">
              <a:avLst/>
            </a:prstGeom>
            <a:solidFill>
              <a:srgbClr val="e6e6ff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720000">
              <a:off x="14727960" y="1131120"/>
              <a:ext cx="35280" cy="3924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720000">
              <a:off x="14678280" y="1121400"/>
              <a:ext cx="35280" cy="39240"/>
            </a:xfrm>
            <a:prstGeom prst="ellipse">
              <a:avLst/>
            </a:prstGeom>
            <a:solidFill>
              <a:srgbClr val="00ae00"/>
            </a:solidFill>
            <a:ln w="108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720000">
              <a:off x="14641560" y="1310760"/>
              <a:ext cx="102600" cy="3240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720000">
              <a:off x="14635080" y="1344960"/>
              <a:ext cx="102600" cy="3240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4440000">
              <a:off x="14346720" y="1334880"/>
              <a:ext cx="39240" cy="2455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720000">
              <a:off x="14850360" y="1454760"/>
              <a:ext cx="38520" cy="25128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720000">
              <a:off x="14842440" y="1449360"/>
              <a:ext cx="17640" cy="7992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720000">
              <a:off x="14471640" y="1388880"/>
              <a:ext cx="17640" cy="79920"/>
            </a:xfrm>
            <a:prstGeom prst="rect">
              <a:avLst/>
            </a:prstGeom>
            <a:solidFill>
              <a:srgbClr val="355e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7020000">
              <a:off x="14136480" y="1361880"/>
              <a:ext cx="39240" cy="1717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8840000">
              <a:off x="14908320" y="1664280"/>
              <a:ext cx="39240" cy="17172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720000">
              <a:off x="14214960" y="1451160"/>
              <a:ext cx="62280" cy="73080"/>
            </a:xfrm>
            <a:prstGeom prst="ellipse">
              <a:avLst/>
            </a:prstGeom>
            <a:solidFill>
              <a:srgbClr val="5c852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720000">
              <a:off x="14827680" y="1645560"/>
              <a:ext cx="62280" cy="73080"/>
            </a:xfrm>
            <a:prstGeom prst="ellipse">
              <a:avLst/>
            </a:prstGeom>
            <a:solidFill>
              <a:srgbClr val="7da647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860000">
              <a:off x="14003280" y="1368000"/>
              <a:ext cx="99000" cy="5040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">
              <a:off x="14967360" y="1794600"/>
              <a:ext cx="99000" cy="48600"/>
            </a:xfrm>
            <a:prstGeom prst="rect">
              <a:avLst/>
            </a:prstGeom>
            <a:solidFill>
              <a:srgbClr val="33cc66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20000">
              <a:off x="14529240" y="1782720"/>
              <a:ext cx="99360" cy="203760"/>
            </a:xfrm>
            <a:prstGeom prst="rect">
              <a:avLst/>
            </a:prstGeom>
            <a:solidFill>
              <a:srgbClr val="94bd5e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720000">
              <a:off x="14460480" y="1921680"/>
              <a:ext cx="49320" cy="10080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720000">
              <a:off x="14609880" y="1953000"/>
              <a:ext cx="49320" cy="100800"/>
            </a:xfrm>
            <a:prstGeom prst="rect">
              <a:avLst/>
            </a:prstGeom>
            <a:solidFill>
              <a:srgbClr val="0000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720000">
              <a:off x="14556240" y="1467360"/>
              <a:ext cx="49680" cy="50400"/>
            </a:xfrm>
            <a:prstGeom prst="rect">
              <a:avLst/>
            </a:prstGeom>
            <a:solidFill>
              <a:srgbClr val="dc2300"/>
            </a:solidFill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4630400" y="1227960"/>
              <a:ext cx="147240" cy="57960"/>
              <a:chOff x="14630400" y="1227960"/>
              <a:chExt cx="147240" cy="57960"/>
            </a:xfrm>
          </p:grpSpPr>
          <p:sp>
            <p:nvSpPr>
              <p:cNvPr id="72" name=""/>
              <p:cNvSpPr/>
              <p:nvPr/>
            </p:nvSpPr>
            <p:spPr>
              <a:xfrm flipH="1" flipV="1">
                <a:off x="14658840" y="1269360"/>
                <a:ext cx="75600" cy="165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720000">
                <a:off x="14663520" y="1238760"/>
                <a:ext cx="36360" cy="3492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4674680" y="1238760"/>
                <a:ext cx="9720" cy="3384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720000">
                <a:off x="14700240" y="1246320"/>
                <a:ext cx="36360" cy="34920"/>
              </a:xfrm>
              <a:prstGeom prst="rect">
                <a:avLst/>
              </a:prstGeom>
              <a:solidFill>
                <a:srgbClr val="94bd5e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4713200" y="1246320"/>
                <a:ext cx="9720" cy="3384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14730840" y="1256760"/>
                <a:ext cx="46440" cy="2592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630400" y="1227960"/>
                <a:ext cx="27000" cy="4140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630400" y="1227960"/>
                <a:ext cx="147240" cy="27360"/>
              </a:xfrm>
              <a:prstGeom prst="line">
                <a:avLst/>
              </a:prstGeom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 flipV="1">
            <a:off x="14052600" y="803160"/>
            <a:ext cx="209520" cy="655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727520" y="591480"/>
            <a:ext cx="910080" cy="745920"/>
            <a:chOff x="13727520" y="591480"/>
            <a:chExt cx="910080" cy="745920"/>
          </a:xfrm>
        </p:grpSpPr>
        <p:sp>
          <p:nvSpPr>
            <p:cNvPr id="82" name=""/>
            <p:cNvSpPr/>
            <p:nvPr/>
          </p:nvSpPr>
          <p:spPr>
            <a:xfrm rot="1140000">
              <a:off x="13790520" y="704880"/>
              <a:ext cx="784080" cy="5187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140000">
              <a:off x="13959720" y="821520"/>
              <a:ext cx="503640" cy="156240"/>
            </a:xfrm>
            <a:prstGeom prst="rect">
              <a:avLst/>
            </a:prstGeom>
            <a:solidFill>
              <a:srgbClr val="c5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1298240" y="1754280"/>
            <a:ext cx="72183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5400" spc="-1" strike="noStrike">
                <a:solidFill>
                  <a:srgbClr val="00cc00"/>
                </a:solidFill>
                <a:latin typeface="Arial"/>
              </a:rPr>
              <a:t>T E A M         G R Ü 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8320" y="4735440"/>
            <a:ext cx="3399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3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17:58:38Z</dcterms:created>
  <dc:creator/>
  <dc:description/>
  <dc:language>en-US</dc:language>
  <cp:lastModifiedBy/>
  <dcterms:modified xsi:type="dcterms:W3CDTF">2015-05-26T09:53:18Z</dcterms:modified>
  <cp:revision>9</cp:revision>
  <dc:subject/>
  <dc:title/>
</cp:coreProperties>
</file>