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D6E-EA93-47D4-8DC5-21AC71CA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55D-6E69-47C2-B4E8-85E88946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1E1-013E-4C90-8A58-DAE18147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2FD-1A2F-404E-A3DD-2D32791D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1E8-0525-470E-9163-F13B80E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8E5-01B5-4900-9F0C-080D19CB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D20-6F39-4094-898F-FB7B844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BFA-EE8E-4D00-AA2B-B7126447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78E-9E9E-4A37-8A77-6DFF850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97C-ED68-417D-9B7F-775EB84A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405-9D78-4D41-AA33-AF782775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A54-6711-4E96-A9ED-66915FF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A8567-F5B1-40E7-BD60-DD1B33A4696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513396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84440" y="3333600"/>
            <a:ext cx="17075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Thema 3: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920" y="13584240"/>
            <a:ext cx="4024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6. Semester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4. Seme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906600" y="13733640"/>
            <a:ext cx="34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ag der Offenen Tür 29.05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44480" y="2013120"/>
            <a:ext cx="528840" cy="474480"/>
          </a:xfrm>
          <a:prstGeom prst="ellipse">
            <a:avLst/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997520" y="986400"/>
            <a:ext cx="1074600" cy="1071360"/>
            <a:chOff x="13997520" y="986400"/>
            <a:chExt cx="1074600" cy="1071360"/>
          </a:xfrm>
        </p:grpSpPr>
        <p:sp>
          <p:nvSpPr>
            <p:cNvPr id="48" name=""/>
            <p:cNvSpPr/>
            <p:nvPr/>
          </p:nvSpPr>
          <p:spPr>
            <a:xfrm rot="16860000">
              <a:off x="14829480" y="1136160"/>
              <a:ext cx="73440" cy="864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000000">
              <a:off x="14536080" y="1104480"/>
              <a:ext cx="73440" cy="846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4576040" y="1012680"/>
              <a:ext cx="285480" cy="29844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4466240" y="1374840"/>
              <a:ext cx="352800" cy="4143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4622480" y="1109880"/>
              <a:ext cx="200520" cy="6840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4727960" y="113112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4678280" y="112140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720000">
              <a:off x="14641560" y="13107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4635080" y="13449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40000">
              <a:off x="14346720" y="1334880"/>
              <a:ext cx="39240" cy="2455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4850360" y="1454760"/>
              <a:ext cx="38520" cy="25128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20000">
              <a:off x="14842440" y="144936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720000">
              <a:off x="14471640" y="138888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020000">
              <a:off x="14136480" y="13618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840000">
              <a:off x="14908320" y="16642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720000">
              <a:off x="14214960" y="1451160"/>
              <a:ext cx="62280" cy="730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20000">
              <a:off x="14827680" y="1645560"/>
              <a:ext cx="62280" cy="7308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60000">
              <a:off x="14003280" y="1368000"/>
              <a:ext cx="99000" cy="504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">
              <a:off x="14967360" y="1794600"/>
              <a:ext cx="99000" cy="486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4529240" y="1782720"/>
              <a:ext cx="99360" cy="2037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4460480" y="192168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720000">
              <a:off x="14609880" y="195300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720000">
              <a:off x="14556240" y="1467360"/>
              <a:ext cx="49680" cy="5040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4630400" y="1227960"/>
              <a:ext cx="147240" cy="57960"/>
              <a:chOff x="14630400" y="1227960"/>
              <a:chExt cx="147240" cy="57960"/>
            </a:xfrm>
          </p:grpSpPr>
          <p:sp>
            <p:nvSpPr>
              <p:cNvPr id="72" name=""/>
              <p:cNvSpPr/>
              <p:nvPr/>
            </p:nvSpPr>
            <p:spPr>
              <a:xfrm flipH="1" flipV="1">
                <a:off x="14658840" y="1269360"/>
                <a:ext cx="75600" cy="165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4663520" y="123876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4674680" y="123876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720000">
                <a:off x="14700240" y="124632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713200" y="124632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4730840" y="1256760"/>
                <a:ext cx="46440" cy="2592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630400" y="1227960"/>
                <a:ext cx="27000" cy="4140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630400" y="1227960"/>
                <a:ext cx="147240" cy="273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 flipV="1">
            <a:off x="14052600" y="803160"/>
            <a:ext cx="209520" cy="655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27520" y="591480"/>
            <a:ext cx="910080" cy="745920"/>
            <a:chOff x="13727520" y="591480"/>
            <a:chExt cx="910080" cy="745920"/>
          </a:xfrm>
        </p:grpSpPr>
        <p:sp>
          <p:nvSpPr>
            <p:cNvPr id="82" name=""/>
            <p:cNvSpPr/>
            <p:nvPr/>
          </p:nvSpPr>
          <p:spPr>
            <a:xfrm rot="1140000">
              <a:off x="13790520" y="704880"/>
              <a:ext cx="784080" cy="518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140000">
              <a:off x="13959720" y="821520"/>
              <a:ext cx="503640" cy="1562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298240" y="1728720"/>
            <a:ext cx="7218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d320"/>
                </a:solidFill>
                <a:latin typeface="Arial"/>
              </a:rPr>
              <a:t>T E A M         G E L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8320" y="4735440"/>
            <a:ext cx="3399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6T09:52:46Z</dcterms:modified>
  <cp:revision>11</cp:revision>
  <dc:subject/>
  <dc:title/>
</cp:coreProperties>
</file>